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A06D-C64D-4CC1-B80F-A5A73C09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F904-39FF-4C96-880F-538EBC4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330B-997A-47CE-8B9C-C85A00AF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BB23-1ABC-4943-9E88-8E4E9586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BE2E-466D-4887-9976-38822C41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975-4E00-461A-838E-666DDE2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AACB-8C56-4079-AD44-F5AB889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ABCA-CF0B-4629-8BE3-EC6E8F8E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2A61-FCAC-43A6-A354-08242DD7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9D71-8701-418D-95FF-97D0319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555-33F1-4B58-960F-674C008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EC5F-F8E1-4E61-9588-B8E1CED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1964-6371-4704-9D8D-4485353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ACB-077E-46CB-B9A1-42CD11A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554-CCEA-43BF-8CE2-E63B393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4A2-EE14-4F0E-80F7-6E936F5C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986D-1640-49FE-B94B-A8E6A9F9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E8E9-1C83-407A-88C4-C8BBF1E2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FE73-5F57-4493-A7C7-C8933D8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F464-5F23-4429-8352-BC18AD3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6B85-068C-4756-B01A-963656D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B8A0-F9F9-4F03-B15D-3DF35E67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F74F-B8F2-49E0-A871-370FE63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48CF-23C3-4AD1-A5C8-D1766C82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EFEE-C484-4D8B-AAB1-C0D042C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EE16-06EE-42FA-AC7B-090D690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9ED9-53C3-45EF-AD6E-0A70F20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07FE-77D2-437B-A1AA-7A1A45A7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1714-5EF8-4A22-9D90-6857C66B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2FCA-5F30-4F91-96A4-AA080D8B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6799-D60E-474E-9F7D-3E772C9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8B32-2EDC-48C2-A2D9-8747F8F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0F21-B3C7-4CAB-BF45-B4E4462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E6A4-70A8-413B-8B9B-B2C1E9C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88C6-FFBF-4ED7-9161-51C9693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4A44-9802-4910-8D77-4A59F064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51B-5309-4D00-892A-C1AB8D4B6B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13F6-3040-44A5-A764-D467AAC263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189-369A-4EF9-8581-B24A36775A3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endParaRPr b="0" lang="en-US" sz="65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0" name="1 Imagen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385596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2 Rectángulo"/>
          <p:cNvSpPr/>
          <p:nvPr/>
        </p:nvSpPr>
        <p:spPr>
          <a:xfrm>
            <a:off x="323280" y="2895480"/>
            <a:ext cx="37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8600"/>
                </a:solidFill>
                <a:latin typeface="Arial"/>
              </a:rPr>
              <a:t>PLAN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2" name="Picture 5" descr="Erysimum_repandum_stem"/>
          <p:cNvPicPr/>
          <p:nvPr/>
        </p:nvPicPr>
        <p:blipFill>
          <a:blip r:embed="rId1"/>
          <a:stretch/>
        </p:blipFill>
        <p:spPr>
          <a:xfrm>
            <a:off x="3235320" y="2770200"/>
            <a:ext cx="2673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EAF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4" name="Picture 5" descr="leaf"/>
          <p:cNvPicPr/>
          <p:nvPr/>
        </p:nvPicPr>
        <p:blipFill>
          <a:blip r:embed="rId1"/>
          <a:stretch/>
        </p:blipFill>
        <p:spPr>
          <a:xfrm>
            <a:off x="2540160" y="2770200"/>
            <a:ext cx="40636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EAV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6" name="Picture 6" descr="leaves"/>
          <p:cNvPicPr/>
          <p:nvPr/>
        </p:nvPicPr>
        <p:blipFill>
          <a:blip r:embed="rId1"/>
          <a:stretch/>
        </p:blipFill>
        <p:spPr>
          <a:xfrm>
            <a:off x="2855880" y="312408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FLOWER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8" name="Picture 5" descr="Nenúfares"/>
          <p:cNvPicPr/>
          <p:nvPr/>
        </p:nvPicPr>
        <p:blipFill>
          <a:blip r:embed="rId1"/>
          <a:stretch/>
        </p:blipFill>
        <p:spPr>
          <a:xfrm>
            <a:off x="2212920" y="2770200"/>
            <a:ext cx="47181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8600"/>
                </a:solidFill>
                <a:latin typeface="Arial"/>
              </a:rPr>
              <a:t>GARDE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0" name="3 Marcador de contenido" descr="GARDEN.jpg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PARTS OF A PLAN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2" name="Picture 7" descr="plant"/>
          <p:cNvPicPr/>
          <p:nvPr/>
        </p:nvPicPr>
        <p:blipFill>
          <a:blip r:embed="rId1"/>
          <a:stretch/>
        </p:blipFill>
        <p:spPr>
          <a:xfrm>
            <a:off x="3429000" y="2057400"/>
            <a:ext cx="25225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4" name="Picture 5" descr="ceiba"/>
          <p:cNvPicPr/>
          <p:nvPr/>
        </p:nvPicPr>
        <p:blipFill>
          <a:blip r:embed="rId1"/>
          <a:stretch/>
        </p:blipFill>
        <p:spPr>
          <a:xfrm>
            <a:off x="1387440" y="1828800"/>
            <a:ext cx="6613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EVERGREEN 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6" name="Picture 5" descr="evergreen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DECIDUOUS 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8" name="Picture 5" descr="winter deciduous trees 002"/>
          <p:cNvPicPr/>
          <p:nvPr/>
        </p:nvPicPr>
        <p:blipFill>
          <a:blip r:embed="rId1"/>
          <a:stretch/>
        </p:blipFill>
        <p:spPr>
          <a:xfrm>
            <a:off x="3244680" y="2362320"/>
            <a:ext cx="2961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28559-jerte-cerezo-en-flor"/>
          <p:cNvPicPr/>
          <p:nvPr/>
        </p:nvPicPr>
        <p:blipFill>
          <a:blip r:embed="rId1"/>
          <a:stretch/>
        </p:blipFill>
        <p:spPr>
          <a:xfrm>
            <a:off x="457200" y="1434960"/>
            <a:ext cx="8128080" cy="54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 WITH FLOWER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O GROW, PLANTS NEED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3" name="Picture 9" descr="lavatube-sunlight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plash-of-single-drop-in-still-water-2-AJHD"/>
          <p:cNvPicPr/>
          <p:nvPr/>
        </p:nvPicPr>
        <p:blipFill>
          <a:blip r:embed="rId2"/>
          <a:stretch/>
        </p:blipFill>
        <p:spPr>
          <a:xfrm>
            <a:off x="5780160" y="1600200"/>
            <a:ext cx="177480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potting_soil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What comes after </a:t>
            </a: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the flowers?</a:t>
            </a:r>
            <a:endParaRPr b="0" lang="en-US" sz="6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icotas"/>
          <p:cNvPicPr/>
          <p:nvPr/>
        </p:nvPicPr>
        <p:blipFill>
          <a:blip r:embed="rId1"/>
          <a:stretch/>
        </p:blipFill>
        <p:spPr>
          <a:xfrm>
            <a:off x="1600200" y="1676520"/>
            <a:ext cx="6000840" cy="4505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 WITH FRUIT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What’s inside the </a:t>
            </a: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fruits?</a:t>
            </a:r>
            <a:endParaRPr b="0" lang="en-US" sz="6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ermcerezas"/>
          <p:cNvPicPr/>
          <p:nvPr/>
        </p:nvPicPr>
        <p:blipFill>
          <a:blip r:embed="rId1"/>
          <a:stretch/>
        </p:blipFill>
        <p:spPr>
          <a:xfrm>
            <a:off x="1752480" y="205740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EED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GRA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78" name="Picture 12" descr="grass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370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untitled"/>
          <p:cNvPicPr/>
          <p:nvPr/>
        </p:nvPicPr>
        <p:blipFill>
          <a:blip r:embed="rId2"/>
          <a:stretch/>
        </p:blipFill>
        <p:spPr>
          <a:xfrm>
            <a:off x="5029200" y="2971800"/>
            <a:ext cx="35672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BUSH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1" name="Picture 6" descr="yewshrub"/>
          <p:cNvPicPr/>
          <p:nvPr/>
        </p:nvPicPr>
        <p:blipFill>
          <a:blip r:embed="rId1"/>
          <a:stretch/>
        </p:blipFill>
        <p:spPr>
          <a:xfrm>
            <a:off x="2057400" y="2590920"/>
            <a:ext cx="54370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ALL                   SMALL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3" name="Picture 7" descr="espinete"/>
          <p:cNvPicPr/>
          <p:nvPr/>
        </p:nvPicPr>
        <p:blipFill>
          <a:blip r:embed="rId1"/>
          <a:stretch/>
        </p:blipFill>
        <p:spPr>
          <a:xfrm>
            <a:off x="1060560" y="2743200"/>
            <a:ext cx="3273480" cy="359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spinete"/>
          <p:cNvPicPr/>
          <p:nvPr/>
        </p:nvPicPr>
        <p:blipFill>
          <a:blip r:embed="rId2"/>
          <a:stretch/>
        </p:blipFill>
        <p:spPr>
          <a:xfrm>
            <a:off x="4827600" y="2743200"/>
            <a:ext cx="32749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HICK                    THI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6" name="Picture 7" descr="espinete"/>
          <p:cNvPicPr/>
          <p:nvPr/>
        </p:nvPicPr>
        <p:blipFill>
          <a:blip r:embed="rId1"/>
          <a:stretch/>
        </p:blipFill>
        <p:spPr>
          <a:xfrm>
            <a:off x="0" y="3200400"/>
            <a:ext cx="5486400" cy="251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spinete"/>
          <p:cNvPicPr/>
          <p:nvPr/>
        </p:nvPicPr>
        <p:blipFill>
          <a:blip r:embed="rId2"/>
          <a:stretch/>
        </p:blipFill>
        <p:spPr>
          <a:xfrm>
            <a:off x="6629400" y="2057400"/>
            <a:ext cx="609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BIG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9" name="Picture 6" descr="espinete"/>
          <p:cNvPicPr/>
          <p:nvPr/>
        </p:nvPicPr>
        <p:blipFill>
          <a:blip r:embed="rId1"/>
          <a:stretch/>
        </p:blipFill>
        <p:spPr>
          <a:xfrm>
            <a:off x="2806560" y="2057400"/>
            <a:ext cx="402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14400" y="21016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4729320" y="22622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838d9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729320" y="4800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838d9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8" name="Picture 10" descr="splash-of-single-drop-in-still-water-2-AJHD"/>
          <p:cNvPicPr/>
          <p:nvPr/>
        </p:nvPicPr>
        <p:blipFill>
          <a:blip r:embed="rId1"/>
          <a:stretch/>
        </p:blipFill>
        <p:spPr>
          <a:xfrm>
            <a:off x="3137040" y="2770200"/>
            <a:ext cx="28699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RO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5" name="Picture 5" descr="anonymous-pink-rose-9945474"/>
          <p:cNvPicPr/>
          <p:nvPr/>
        </p:nvPicPr>
        <p:blipFill>
          <a:blip r:embed="rId1"/>
          <a:stretch/>
        </p:blipFill>
        <p:spPr>
          <a:xfrm>
            <a:off x="2743200" y="250524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ULIP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7" name="Picture 5" descr="TULIP"/>
          <p:cNvPicPr/>
          <p:nvPr/>
        </p:nvPicPr>
        <p:blipFill>
          <a:blip r:embed="rId1"/>
          <a:stretch/>
        </p:blipFill>
        <p:spPr>
          <a:xfrm>
            <a:off x="3440160" y="2209680"/>
            <a:ext cx="2622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VIOLE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9" name="Picture 5" descr="la-violeta"/>
          <p:cNvPicPr/>
          <p:nvPr/>
        </p:nvPicPr>
        <p:blipFill>
          <a:blip r:embed="rId1"/>
          <a:stretch/>
        </p:blipFill>
        <p:spPr>
          <a:xfrm>
            <a:off x="2895480" y="2514600"/>
            <a:ext cx="41292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lavatube-sunlight"/>
          <p:cNvPicPr/>
          <p:nvPr/>
        </p:nvPicPr>
        <p:blipFill>
          <a:blip r:embed="rId1"/>
          <a:stretch/>
        </p:blipFill>
        <p:spPr>
          <a:xfrm>
            <a:off x="609480" y="167652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UNLIGH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FLOWERP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42" name="Picture 6" descr="flowerpot_empty"/>
          <p:cNvPicPr/>
          <p:nvPr/>
        </p:nvPicPr>
        <p:blipFill>
          <a:blip r:embed="rId1"/>
          <a:stretch/>
        </p:blipFill>
        <p:spPr>
          <a:xfrm>
            <a:off x="2678040" y="2770200"/>
            <a:ext cx="37879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otting_soil"/>
          <p:cNvPicPr/>
          <p:nvPr/>
        </p:nvPicPr>
        <p:blipFill>
          <a:blip r:embed="rId1"/>
          <a:stretch/>
        </p:blipFill>
        <p:spPr>
          <a:xfrm>
            <a:off x="2286000" y="19350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OIL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germcerezas"/>
          <p:cNvPicPr/>
          <p:nvPr/>
        </p:nvPicPr>
        <p:blipFill>
          <a:blip r:embed="rId1"/>
          <a:stretch/>
        </p:blipFill>
        <p:spPr>
          <a:xfrm>
            <a:off x="1752480" y="205740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EED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IFE CYCLE OF A PLAN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48" name="3 Marcador de contenido" descr="life_cycle_of_plant.gif"/>
          <p:cNvPicPr/>
          <p:nvPr/>
        </p:nvPicPr>
        <p:blipFill>
          <a:blip r:embed="rId1"/>
          <a:stretch/>
        </p:blipFill>
        <p:spPr>
          <a:xfrm>
            <a:off x="2514600" y="2198520"/>
            <a:ext cx="3894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ROOT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0" name="Picture 7" descr="root-info2"/>
          <p:cNvPicPr/>
          <p:nvPr/>
        </p:nvPicPr>
        <p:blipFill>
          <a:blip r:embed="rId1"/>
          <a:stretch/>
        </p:blipFill>
        <p:spPr>
          <a:xfrm>
            <a:off x="3514680" y="2770200"/>
            <a:ext cx="21146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ISTINA</dc:creator>
  <dc:description/>
  <dc:language>en-US</dc:language>
  <cp:lastModifiedBy>cristina</cp:lastModifiedBy>
  <dcterms:modified xsi:type="dcterms:W3CDTF">2012-05-17T23:09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